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0440" y="3519720"/>
            <a:ext cx="774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0440" y="351972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0160" y="351972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0160" y="137016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137016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0440" y="351972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0160" y="351972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351972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20680" y="222120"/>
            <a:ext cx="77169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90440" y="351972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0160" y="351972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90440" y="3519720"/>
            <a:ext cx="774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90440" y="3519720"/>
            <a:ext cx="774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90440" y="351972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0160" y="351972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0160" y="137016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9520" y="137016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90440" y="351972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0160" y="351972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9520" y="3519720"/>
            <a:ext cx="249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20680" y="222120"/>
            <a:ext cx="7716960" cy="38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0440" y="351972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0160" y="351972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0160" y="1370160"/>
            <a:ext cx="378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0440" y="3519720"/>
            <a:ext cx="774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70600" y="6032520"/>
            <a:ext cx="1987560" cy="557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690560" y="6337440"/>
            <a:ext cx="51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n independent, Australian organisation for Quality Use of Medic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4292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91800" y="1079640"/>
            <a:ext cx="683748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0600" y="6032520"/>
            <a:ext cx="1987560" cy="55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89120" y="6337440"/>
            <a:ext cx="51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n independent, Australian organisation for Quality Use of Medic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0600" y="6032520"/>
            <a:ext cx="1987560" cy="557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89120" y="6337440"/>
            <a:ext cx="51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n independent, Australian organisation for Quality Use of Medic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ps.org.au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91800" y="1079640"/>
            <a:ext cx="683748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Unicode MS"/>
              </a:rPr>
              <a:t>Drug Usage Evaluation (DUE) of Hypnotics for Insomnia in Residential Aged Care Facilities (RACFs)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36840" y="3141720"/>
            <a:ext cx="7557840" cy="26272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80000" bIns="1800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Kwong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Education and Quality Assurance Program Offic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National Prescribing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Resources to undertake DU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(Step 1- Make a start)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mple letter to MACs and GPs about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ident/carer information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Resources to undertake DU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(Step 2- Collect data)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Form- what data to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demographic data- age and ge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of hypn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se and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-indications to the use of hypn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non-drug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esources to undertake DU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Step 3 &amp; 4- Evaluate data &amp; Feedback)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ta Evaluation and feedback form- show simple calculation; how to present data; what findings to feedback to MACs/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5380200" cy="6961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esources to undertake DU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Step 5- Actions: to implement change)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Practice Criteria (as guide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zodiazepine withdrawal plan (NPS PPR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S patient education material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reduction plan for sleeping tablets and sedati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tting a good night’s sleep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n non-drug measures used for managing insom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Other resources to complete DU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(not included in kit)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tact detai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obtain a Insomnia Management Kit (developed by Pharmaceutical Services, DHA, SA) cont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mmy LeBlanc on (08) 82267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stralian Medicines Handbook Drug Choice Companion: Aged Care; contact AMH on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8) 8303 69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Experience from DUE kit pilo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ed by nurses and an accredited pharma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 the use of DUE kit for collecting data, evaluating findings, providing feedback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feedback- straight forward, valuable resource kit; has simplified the whole proces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ly the pilot led to a reduction in hypnotics use for insom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When is the kit ready?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UE kit has been reviewed and pil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published on NPS websit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ps.org.a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 end of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support would be help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at state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cknowledgemen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PS staff: Kylie Easton, Louise Kenyon, Clare Bottomley, Judith Ma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elaide North East DGP: Belinda Lov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viewers: NPS PIWG members, Rohan Elliott, Debbie Rigby, Peter Chittick, Dr Michael Wood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loting: Norwood Nursing Home (SA), Helping Hand Aged Care Ingle Farm (SA), Chris Petter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SA (NSW): Lily C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What is Drug Usage Evaluation (DUE)?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yclic quality improvement activity to promote optimal drug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s to improve drug use by monitoring utilisation against best practic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-Do-Study-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DUE cycle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19640" y="4305240"/>
          <a:ext cx="392436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4305240"/>
                    <a:ext cx="392436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2" name=""/>
          <p:cNvGrpSpPr/>
          <p:nvPr/>
        </p:nvGrpSpPr>
        <p:grpSpPr>
          <a:xfrm>
            <a:off x="2800440" y="2184480"/>
            <a:ext cx="3680640" cy="3858840"/>
            <a:chOff x="2800440" y="2184480"/>
            <a:chExt cx="3680640" cy="3858840"/>
          </a:xfrm>
        </p:grpSpPr>
        <p:sp>
          <p:nvSpPr>
            <p:cNvPr id="93" name="_s58400"/>
            <p:cNvSpPr/>
            <p:nvPr/>
          </p:nvSpPr>
          <p:spPr>
            <a:xfrm>
              <a:off x="3389760" y="2184480"/>
              <a:ext cx="2502720" cy="2624040"/>
            </a:xfrm>
            <a:custGeom>
              <a:avLst/>
              <a:gdLst>
                <a:gd name="textAreaLeft" fmla="*/ 0 w 2502720"/>
                <a:gd name="textAreaRight" fmla="*/ 2503080 w 250272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58401"/>
            <p:cNvSpPr/>
            <p:nvPr/>
          </p:nvSpPr>
          <p:spPr>
            <a:xfrm rot="5400000">
              <a:off x="3917520" y="2862360"/>
              <a:ext cx="2624400" cy="2502720"/>
            </a:xfrm>
            <a:custGeom>
              <a:avLst/>
              <a:gdLst>
                <a:gd name="textAreaLeft" fmla="*/ 0 w 2624400"/>
                <a:gd name="textAreaRight" fmla="*/ 2624760 w 2624400"/>
                <a:gd name="textAreaTop" fmla="*/ 0 h 2502720"/>
                <a:gd name="textAreaBottom" fmla="*/ 2503080 h 250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58403"/>
            <p:cNvSpPr/>
            <p:nvPr/>
          </p:nvSpPr>
          <p:spPr>
            <a:xfrm rot="10800000">
              <a:off x="3389760" y="3419280"/>
              <a:ext cx="2502720" cy="2624040"/>
            </a:xfrm>
            <a:custGeom>
              <a:avLst/>
              <a:gdLst>
                <a:gd name="textAreaLeft" fmla="*/ 0 w 2502720"/>
                <a:gd name="textAreaRight" fmla="*/ 2503080 w 250272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58405"/>
            <p:cNvSpPr/>
            <p:nvPr/>
          </p:nvSpPr>
          <p:spPr>
            <a:xfrm rot="16200000">
              <a:off x="2739600" y="2862720"/>
              <a:ext cx="2624400" cy="2502720"/>
            </a:xfrm>
            <a:custGeom>
              <a:avLst/>
              <a:gdLst>
                <a:gd name="textAreaLeft" fmla="*/ 0 w 2624400"/>
                <a:gd name="textAreaRight" fmla="*/ 2624760 w 2624400"/>
                <a:gd name="textAreaTop" fmla="*/ 0 h 2502720"/>
                <a:gd name="textAreaBottom" fmla="*/ 2503080 h 250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_s58398"/>
            <p:cNvSpPr/>
            <p:nvPr/>
          </p:nvSpPr>
          <p:spPr>
            <a:xfrm>
              <a:off x="5306400" y="2425680"/>
              <a:ext cx="943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Plan: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dentif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he area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58399"/>
            <p:cNvSpPr/>
            <p:nvPr/>
          </p:nvSpPr>
          <p:spPr>
            <a:xfrm>
              <a:off x="5308200" y="4810320"/>
              <a:ext cx="94320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 Measur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he proble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58402"/>
            <p:cNvSpPr/>
            <p:nvPr/>
          </p:nvSpPr>
          <p:spPr>
            <a:xfrm>
              <a:off x="3033720" y="4813200"/>
              <a:ext cx="943560" cy="9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 Stud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he finding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58404"/>
            <p:cNvSpPr/>
            <p:nvPr/>
          </p:nvSpPr>
          <p:spPr>
            <a:xfrm>
              <a:off x="3030480" y="2428920"/>
              <a:ext cx="943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. Action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o introduc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Why a DUE on use of hypnotics for insomnia?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mnia a common problem among RACF elderly residents and hypnotics are common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ssociated with long term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vidence on effectiv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nce and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e events e.g. falls, fractures, 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0000"/>
                </a:solidFill>
                <a:latin typeface="Arial Unicode MS"/>
              </a:rPr>
              <a:t>What are the reasons for conducting a DUE in RACFs?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assist RACF to meet components of Residential Care Standards (i.e. medication and sleep management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omply with APAC guidelines** where medication review for RACF residents are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Aged Care Standards Agency. Accreditation Guide for Residential Aged Care Services. Parramatta: Aged Care Standards and Accreditation Agency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*Australian Pharmaceutical Advisory Council. Integrated best practice model for medication management in residential aged care facilities. Canberra: Australian Pharmaceutical Advisory Council, 2002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What can this DUE kit offer?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tools to RACF staff for implementation of a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the use of hypnotics (benzodiazepines and non-benzodiazepines) for the management of insom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oes not include evaluation on the use of hypnotics for other psychiatric disor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What is in the DUE kit?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roduction to DUE and details on steps to complete DU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ources for staff education (e.g non-drug measures, Best Practice Cri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ources to undertake DUE (e.g. data collection forms, template let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tact details for other usefu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Steps to complete a DUE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ke a start- Gai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llec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valu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ovid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Assess results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Monitor and re-evaluate drug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0680" y="222120"/>
            <a:ext cx="7716960" cy="82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Unicode MS"/>
              </a:rPr>
              <a:t>Best Practice Criteria</a:t>
            </a:r>
            <a:endParaRPr b="1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0440" y="1370160"/>
            <a:ext cx="774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against 6 best practi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n #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nzodiazepines and non-benzodiazepine  hypnotics should not be first-line treatment for insom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summary on the above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on evidence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relevant data (e.g. how commonly they are used; existing non-drug meas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1:02:45Z</dcterms:created>
  <dc:creator>klyell</dc:creator>
  <dc:description/>
  <dc:language>en-US</dc:language>
  <cp:lastModifiedBy>kng</cp:lastModifiedBy>
  <dcterms:modified xsi:type="dcterms:W3CDTF">2004-12-01T01:59:37Z</dcterms:modified>
  <cp:revision>139</cp:revision>
  <dc:subject/>
  <dc:title>Australian Association  of Consultant Pharmacy</dc:title>
</cp:coreProperties>
</file>